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DB9-3C2B-4EDF-BA90-2ABC9D94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E605-5F33-4118-B838-1E9D8983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DF36-2480-49B7-8A37-04FCA537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9C9-1B0A-40DF-8762-225F0D92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C77-9E82-4AEA-A04E-2963F701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1C4-A62B-4BB3-8976-1FBE0D63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44CA-7529-467A-B9C4-FE768F78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462-E80A-437E-9592-C81FC788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7AAD-382D-445A-A928-44A667D2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EAA-64E2-4FC2-A907-99858C95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EE1B-AEC7-4E7B-8B33-5FD9420E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2B7-2526-48C0-A194-2605376C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93B8-530D-4708-AF6B-60ADF4E7B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avid Reyno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0" y="1219320"/>
            <a:ext cx="9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eek  City-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8" descr="http://t0.gstatic.com/images?q=tbn:ANd9GcRdCKjWof9W5zWJIFbdJuEauajYTgx4QxfV9K08TNi2SuH6-xQ5lA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514600" y="1523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udy of wisdom and the right way t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t0.gstatic.com/images?q=tbn:ANd9GcTnqM7K8CWcxYcUyB6fNpJpz0IRFwe37EOB4a_VyxNnXaqNcovZUw"/>
          <p:cNvPicPr/>
          <p:nvPr/>
        </p:nvPicPr>
        <p:blipFill>
          <a:blip r:embed="rId1"/>
          <a:stretch/>
        </p:blipFill>
        <p:spPr>
          <a:xfrm>
            <a:off x="3276720" y="3429000"/>
            <a:ext cx="264780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form of government  where people vote to make desig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ts3.mm.bing.net/images/thumbnail.aspx?q=1632893346090&amp;id=5d7b05a9bb3133a8b87e6899090f5bb8&amp;url=http%3a%2f%2fwww.thelibertyvoice.com%2fwp-content%2fuploads%2f2010%2f06%2f633611418566621433-Democracy.jpg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828800" y="16002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ea of land nearly surrounded by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t2.gstatic.com/images?q=tbn:ANd9GcRGCgbi2yBNTrMDDvkeOMN7csQp5hjlb59dNkraQTvW9u33vPra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362320" y="1295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r between athens and sp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http://t0.gstatic.com/images?q=tbn:ANd9GcR4SG4-xBxMaUDbHYNM4OQCwahS4mxUTbtnyTxEHAsN9bnFwOpznw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http://t1.gstatic.com/images?q=tbn:ANd9GcTD-8uShODqs-6qAVblR7AHkZqCBJCQ7Xvi-Z3XGEaMxzOfoTNM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along the cost 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http://t3.gstatic.com/images?q=tbn:ANd9GcSTz9CAC1C1NfZBfvsoyGl0SAdqW4qG4Tme4bX0S9DpjDSJDmVAVw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ts1.mm.bing.net/images/thumbnail.aspx?q=1606968543236&amp;id=37156208650964fb6674b2352413ce85&amp;url=http%3a%2f%2fupload.wikimedia.org%2fwikipedia%2fcommons%2f3%2f37%2fAcropolis_of_Athens_01361.JPG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http://ts4.mm.bing.net/images/thumbnail.aspx?q=1581856075387&amp;id=2ebc77a42262dd046b5dc85e22490d6c&amp;url=http%3a%2f%2fwww.mccullagh.org%2fdb9%2f1ds-12%2froman-agora.jpg"/>
          <p:cNvPicPr/>
          <p:nvPr/>
        </p:nvPicPr>
        <p:blipFill>
          <a:blip r:embed="rId1"/>
          <a:stretch/>
        </p:blipFill>
        <p:spPr>
          <a:xfrm>
            <a:off x="0" y="1498680"/>
            <a:ext cx="9144000" cy="53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 lawmaking place where people voted on issues that helped their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ts1.mm.bing.net/images/thumbnail.aspx?q=1626340924836&amp;id=352da4d525efe49eadfeb303d7cb6348&amp;url=http%3a%2f%2fwww.burdosclassroom.org%2fworldhistorywiki%2fimages%2fc%2fc8%2fPicture2.jpg"/>
          <p:cNvPicPr/>
          <p:nvPr/>
        </p:nvPicPr>
        <p:blipFill>
          <a:blip r:embed="rId1"/>
          <a:srcRect l="0" t="0" r="0" b="1964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ITIZ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ts2.mm.bing.net/images/thumbnail.aspx?q=1618245849457&amp;id=8ec1818af6f5a3e5b3220dbde9d6a50f&amp;url=http%3a%2f%2fgreece.mrdonn.org%2fathens1.gif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 person who has certain rights and responsibilities to his or her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18148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group of people who lived apart from Greece but kept economic ties with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ts1.mm.bing.net/images/thumbnail.aspx?q=1624370196236&amp;id=9a48191c7fd926a00f8e0d8c6b6daa54&amp;url=http%3a%2f%2fwww.nps.gov%2frowi%2fhistoryculture%2fimages%2froger-williams-Welcome_Colony.jpg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4792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form of government where people vote to make the de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t2.gstatic.com/images?q=tbn:ANd9GcTDJC3MaE0HCikerrUCSy3Zc7zJYm5j_C8YN1N2sCTFmlpMYVAqIQ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2590920" y="129528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ar evidence and make decisions in  a court of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0" descr="http://t3.gstatic.com/images?q=tbn:ANd9GcQiguxFsS_keO4HpFe0EVD7yk4UbRFvIHFoZbUiezNflMd_2cXyVQ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1295280" y="137160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headed by one 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http://t3.gstatic.com/images?q=tbn:ANd9GcSf6vAnFKjvbXNAtQtv8-MhSWNDXZX56RLuj2c_4v2dv-ALp-bV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20:26:18Z</dcterms:modified>
  <cp:revision>99</cp:revision>
  <dc:subject/>
  <dc:title>Ancient Greece</dc:title>
</cp:coreProperties>
</file>